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72A8-3B97-4D05-9822-587A77C64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A972-60FC-432B-9219-0E9CA60F7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24D6-E83A-4CA3-8122-88D625256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EEFA-E996-4780-8F12-FF10B329D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0CBC1-D9B5-464E-AB9D-85E0D57F9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E55CF-B5D7-4519-B5D3-BC3329685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ED7D2-C807-490F-AFFA-F51F90D51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C8804-B331-4ADE-AC05-65C952CA0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3834B-874E-4BC8-B925-56D13090F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D3257-A2DB-4520-B3DE-F99602612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494A4-33C8-48A7-B00F-8721B66F2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03F5-5D38-4C0E-ADCB-ABBCA5B6C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A82E3-B88A-4CFB-ACA9-F58C27477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D234A-0A58-4966-9E87-8188E0851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DC6AB-8A3E-47F5-8489-7675BBF62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3EBA8-5EE9-436C-9CC7-5DC9F732A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C9D30-33E8-4212-A096-2D7A10DC7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9542-6DC5-450C-B20D-A0E076EB2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C436-8665-4708-88E1-402D7771B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8458-C6C0-40E9-AEA1-8FF6983D3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F20B-76D4-4A0A-A214-D48F54559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44F9-0D7E-4FA3-A372-570CC4903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79D2-6E88-47AF-B202-BD3575DE9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1AC4-2E3E-45F3-917E-41998552C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4DD8B-F0CF-460E-BCE5-519BF2262AB6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1BF94-9B6E-40BD-91B6-B5185C8AA7A6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장 평가</a:t>
            </a:r>
            <a:endParaRPr b="1" lang="en-US" sz="4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427280" y="2927520"/>
            <a:ext cx="425916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학교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도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항목별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 SW/M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0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 비율이 연령과 말하는 과제 기능에 따라 변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는 가장 적은 말더듬을 유발한 항목에서 가장 많이 유발한 항목으로 진행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질문하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말더듬을 많이 유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이한 말하기 상황에 따라 말더듬 비율이 다르다는 특징에 따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환경에서 평가하는 것이 필요성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정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없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만약 압박감을 측정할 수 있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발화의 길이 혹은 복잡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함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ample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측정사실 모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에서 더 많이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대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 환경과 실제 생활에서 측정 사이 불일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 사이의 차이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에 유의미한 차이 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2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외면적 및 내면적 행동 관찰에서 치료 전 및 치료 후 모두에서 대부분 경우에 매우 유사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. Ingha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적어도 세 가지 다른 환경들에서 혹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명의 다른 사람들에게서 샘플을 얻을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말하기 과업과 경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서로 다른 사람들과 적어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~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서로 다른 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밖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구어 샘플을 수집 기회 제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1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곳까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에 대한 부연 설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포함하는 프로그램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Monterey Fluency Progra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Systematic Fluency Assessment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과 비슷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이유 개발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hine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초기 워크숍에 참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유창성 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를 유도하는 발화의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한 말더듬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결과를 분석하기 위해서 사용한 신뢰도 절차 등으로써 충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중국어로 번역되어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국 연구지에서 검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수집한 것과 같은 완전한 샘플을 수집하는 것의 중요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1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 수집 및 검사 과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riterion Tes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해 전혀 후속자극을 주지 않고 그 환자의 치료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을 측정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시작하기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지 주요한 말하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 말더듬에 대한 일관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할 수 있는 비율을 얻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단어를 계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 측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나중에 분석을 위해서 녹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녹화를 해야 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 및 단어 수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확인사항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의 읽기 수준이하의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 1, 2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하여 각각 다른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흔히 있는 정상적 비유창성인 수정과 말더듬을 구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상자가 글을 읽지 못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 검사를 실시하지 말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시는 간단하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내가 당신에게 충분하다고 할 때까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은 계속 읽어야 합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기에 당신이 말할 주제들이 있습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이 말을 하고 나는 들을 것입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26" name="0043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다음 단계로 나아가기 위해서 통과해야할 프로그램 중에 실시하는 검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T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가 필요한 단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쪽 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7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말더듬 비율이 높게 관찰되는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들이 읽기에서 대치하거나 돌려말하기를 할 수 없기 때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성인들은 특정한 단어를 돌려 말하고 회피할 수 있기 때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프로그램에서 읽기로 시작하는 주요한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직면하게 하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조기에 해결하기 위해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1" name="_x82924376" descr="EMB000006d00946"/>
          <p:cNvPicPr/>
          <p:nvPr/>
        </p:nvPicPr>
        <p:blipFill>
          <a:blip r:embed="rId1"/>
          <a:stretch/>
        </p:blipFill>
        <p:spPr>
          <a:xfrm>
            <a:off x="785880" y="214200"/>
            <a:ext cx="7000920" cy="6643800"/>
          </a:xfrm>
          <a:prstGeom prst="rect">
            <a:avLst/>
          </a:prstGeom>
          <a:ln w="0">
            <a:noFill/>
          </a:ln>
        </p:spPr>
      </p:pic>
      <p:pic>
        <p:nvPicPr>
          <p:cNvPr id="132" name="00429.mp3" descr=""/>
          <p:cNvPicPr/>
          <p:nvPr/>
        </p:nvPicPr>
        <p:blipFill>
          <a:blip r:embed="rId2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T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관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an Kirk(1974b): r=.7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유의미한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(1995b): r=.9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러 개의 측정을 하는 이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객관성을 효과적으로 충족시키기 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반화를 위한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간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종료 시에 계속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전에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 단계로 나아갈 준비 확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 각 단계를 마친 후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사례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준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요정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언어치료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 기간 동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많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성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패한 치료의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대감 저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대하게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부모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척들의 말더듬 유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현재 지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전적인 요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한 생물학적 기초를 지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모들은 유전적 제공자이자 하나의 모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합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FI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인터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I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이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성인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양식이 번거롭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소비가 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길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필요한 부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삭제항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이야기 말하기와 독백 유사한 항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방해 항목은 일관성 유지 어려워 삭제하였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항목들을 생략 가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하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제들과 환경들에서 환자의 구어샘플 얻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하나의 진단검사이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후 검사도구로서 역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 항목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발화 수 등과 같은 요인에 따라 말하는 시간이 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~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으로 나타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터뷰 및 태도 척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척도 및 인터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와 치료의 효과에 대한 환자 및 부모의 견해를 얻기 위해 제시한 전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Public School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Bridgeport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추적점검용으로 인터뷰 양식을 개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Ryan, 1981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데이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에 대한 효과나 평가에 매우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이내에 환자의 부모로부터 중요한 정보를 제공받는데 대단히 도움이 되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에게 질문 할 것들에 대한 아이디어를 주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에 매우 유용한 정보를 제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시간을 잘 사용하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별화교육계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IEP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치료시작 및 치료종료 등의 활동에 쉽게 활용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실시 및 채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그림 카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의 읽기 수준에 맞는 읽기 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제 전화로 할 수 있는 것 등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낯선 사람 혹은 환자를 모르는 사람도 필요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한 손에 스톱워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다른 손에 연필을 잡고서 검사 결과를 씀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인터뷰를 녹음하여야 함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첵크 사항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가 말하는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더듬은 단어 수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시간 바람직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결과 데이터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5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요약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A~J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의 상이한 구어 활동에 대한 분류와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+ 4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다른 환경에서 검사자 이외의 다른 사람들과 말하는 것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을 가장 적게 유발하는 것에서부터 가장 많이 유발하는 것의 순으로 배열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각 항목별 개별적으로 시간을 재고 분석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총 더듬은 단어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SW/M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투쟁행동은 임상적 말더듬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clinical stuttering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으로 분류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FI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양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어떤 환자의 유창성인터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FI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우측 상단 코너에 말더듬 행동에 대한 형태분석을 제시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형태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①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w/r), ②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부분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w/r), ③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), ④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), ⑤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 어느 하나에 간단히 ○표 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한 단어에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이상의 형태가 나타난다면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장 심한 혹은 더 심한 형태로 선택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범주 중 어느 곳에도 넣을 수 없는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 앞에서 코를 훌쩍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와 같은 드문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에 포함시킴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심한 정도는 전적으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에 의하여 결정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ild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정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oderat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2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ever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9.0 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 분석의 약점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지 형태의 출현 유무를 나타내지 않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심한 정도 평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everity): 7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혹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를 사용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0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 없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, 1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…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7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최고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 경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성 인터뷰 심한 정도 지수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Fluency Interview Index of Severity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를 평가하는 보다 더 공식적인 시스템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9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지수는 완벽하지 않으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P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부분에서 더욱 완벽하지 않다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SI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29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Lowery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 실시한 인지적 평가 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42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에 유의한 상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r=.51, p&lt;.05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하는 속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peaking rate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문제영역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단지 중정도의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면서 심한 말더듬인과 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low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에서 중정도의 말하기 속도이면서 매우 심한 말더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대부분 투쟁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은 정확하게 평가하기가 어려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임상가가 투쟁에 대해서 쉽게 또 당연하게 편견을 가지기 때문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매우 높거나 매우 낮은 말하기 속도는 문제를 제시하는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매우 낮은 말하기 속도에서는 더욱 그렇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이 너무 심하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환자는 많은 단어들을 산출할 수 없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해결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형태를 숫자나 말더듬의 상이한 유형의 패턴에 근거한 정교한 채점 시스템을 시도하기보다는 오히려 단순히 그 행동의 존재 여부로써 다루었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9. 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심한 정도에 대한 유창성 인터뷰 지수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FIIS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부모 혹은 환자가 심한 정도를 평가하기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모의 구어 평가 중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척도의 신뢰도 및 타당도의 문제점을 인식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하기는 말더듬이 환자 혹은 부모들에게 어떻게 보여지는 지에 대한 정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경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, 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 척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에 대한 객관적인 측정과 높은 상관이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의 평가와 부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의 평가 사이에 상당한 차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일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가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연스러움을 평가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연스러움 평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연장 프로그램을 실시해온 환자들을 돕기 위한 필요성에서 개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한 명 이상의 청자들에게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9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부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많은 연구들이 자연스러움 평가하기가 신뢰할 수 있을 정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두 가지 문제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사람들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가 아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다른 평가자와는 매우 다르게 평가할 수 있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자간 신뢰도 낮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상적으로 유창한 화자의 자연스러움을 신뢰할 수 있을 정도로 평가하기가 어려웠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9:43:16Z</dcterms:created>
  <dc:creator>kwon</dc:creator>
  <dc:description/>
  <dc:language>en-US</dc:language>
  <cp:lastModifiedBy>user</cp:lastModifiedBy>
  <dcterms:modified xsi:type="dcterms:W3CDTF">2013-11-13T02:26:50Z</dcterms:modified>
  <cp:revision>23</cp:revision>
  <dc:subject/>
  <dc:title>제 3 장 평가</dc:title>
</cp:coreProperties>
</file>