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6858000" cy="9144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003400" y="744120"/>
            <a:ext cx="279072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8576-FABD-4B6E-85EB-ECD63B569C1A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2003400" y="744480"/>
            <a:ext cx="2790720" cy="372276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AA56-C0F5-41E4-8D31-DF129BBFB0DD}" type="slidenum"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ED62-EEB5-41D9-A2D1-1CB0E02DB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B48-5EFD-4A4A-99F1-072278827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C574-5210-4E34-84B4-F5854D3B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DA12-A440-4178-8A32-195312CCB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DFAF-1FA5-4495-9125-EAEE7FC4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64A0-3694-4D82-ABB4-4068F06D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9676-5581-4B77-A01F-7FA0FB4D7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91F6-8848-4264-8033-FD1373C8E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F057-9B50-4DC5-9BAC-B6FA7D2E0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961C-E271-46C9-986F-2D326F99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969B-1898-4895-9D60-DB5662E0E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185-8731-4102-B69B-1D75EE1F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CC185-C5BA-4C42-AFDF-3FB376895FE7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2502720" y="214920"/>
            <a:ext cx="1800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1" lang="ko-KR" sz="25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입 사 지 원 서 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57120" y="4427640"/>
          <a:ext cx="6215040" cy="933480"/>
        </p:xfrm>
        <a:graphic>
          <a:graphicData uri="http://schemas.openxmlformats.org/drawingml/2006/table">
            <a:tbl>
              <a:tblPr/>
              <a:tblGrid>
                <a:gridCol w="571680"/>
                <a:gridCol w="1133280"/>
                <a:gridCol w="1081080"/>
                <a:gridCol w="642960"/>
                <a:gridCol w="1212840"/>
                <a:gridCol w="878040"/>
                <a:gridCol w="695160"/>
              </a:tblGrid>
              <a:tr h="191880"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격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rowSpan="4"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능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어학종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점수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취득일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" rIns="9000" tIns="90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" marR="900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57120" y="5359320"/>
          <a:ext cx="6215040" cy="1998720"/>
        </p:xfrm>
        <a:graphic>
          <a:graphicData uri="http://schemas.openxmlformats.org/drawingml/2006/table">
            <a:tbl>
              <a:tblPr/>
              <a:tblGrid>
                <a:gridCol w="571680"/>
                <a:gridCol w="988920"/>
                <a:gridCol w="2087640"/>
                <a:gridCol w="1152360"/>
                <a:gridCol w="719280"/>
                <a:gridCol w="695160"/>
              </a:tblGrid>
              <a:tr h="48708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력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 회사명 및 부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~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미디어로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경영지원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3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357120" y="3790800"/>
          <a:ext cx="6215040" cy="636840"/>
        </p:xfrm>
        <a:graphic>
          <a:graphicData uri="http://schemas.openxmlformats.org/drawingml/2006/table">
            <a:tbl>
              <a:tblPr/>
              <a:tblGrid>
                <a:gridCol w="571680"/>
                <a:gridCol w="809640"/>
                <a:gridCol w="690480"/>
                <a:gridCol w="690480"/>
                <a:gridCol w="690480"/>
                <a:gridCol w="690840"/>
                <a:gridCol w="690480"/>
                <a:gridCol w="690480"/>
                <a:gridCol w="690480"/>
              </a:tblGrid>
              <a:tr h="264240">
                <a:tc rowSpan="2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역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필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군    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    급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병     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면제사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복무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7200" rIns="7200" tIns="72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357120" y="1914480"/>
          <a:ext cx="6215040" cy="571680"/>
        </p:xfrm>
        <a:graphic>
          <a:graphicData uri="http://schemas.openxmlformats.org/drawingml/2006/table">
            <a:tbl>
              <a:tblPr/>
              <a:tblGrid>
                <a:gridCol w="1243080"/>
                <a:gridCol w="1243080"/>
                <a:gridCol w="1243080"/>
                <a:gridCol w="784080"/>
                <a:gridCol w="1701720"/>
              </a:tblGrid>
              <a:tr h="30492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락처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핸드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</a:rPr>
                        <a:t>E-mai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6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주소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357120" y="7367760"/>
          <a:ext cx="6215040" cy="1357200"/>
        </p:xfrm>
        <a:graphic>
          <a:graphicData uri="http://schemas.openxmlformats.org/drawingml/2006/table">
            <a:tbl>
              <a:tblPr/>
              <a:tblGrid>
                <a:gridCol w="571680"/>
                <a:gridCol w="987480"/>
                <a:gridCol w="1081080"/>
                <a:gridCol w="1008000"/>
                <a:gridCol w="1871640"/>
                <a:gridCol w="695160"/>
              </a:tblGrid>
              <a:tr h="246240">
                <a:tc rowSpan="5"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가족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관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연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동거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비동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" rIns="7920" tIns="792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　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7920" marR="79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Box 11"/>
          <p:cNvSpPr/>
          <p:nvPr/>
        </p:nvSpPr>
        <p:spPr>
          <a:xfrm>
            <a:off x="266760" y="8734320"/>
            <a:ext cx="633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* </a:t>
            </a:r>
            <a:r>
              <a:rPr b="0" lang="ko-KR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상기 지원자의 개인정보는 당사 채용에 필요한 업무에만 활용됨을 알려 드립니다</a:t>
            </a:r>
            <a:r>
              <a:rPr b="0" lang="en-US" sz="1000" spc="-1" strike="noStrike">
                <a:solidFill>
                  <a:srgbClr val="c00000"/>
                </a:solidFill>
                <a:latin typeface="맑은 고딕"/>
                <a:ea typeface="맑은 고딕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5381280" y="357120"/>
            <a:ext cx="102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경력사원용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발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57120" y="674640"/>
          <a:ext cx="6215040" cy="1212840"/>
        </p:xfrm>
        <a:graphic>
          <a:graphicData uri="http://schemas.openxmlformats.org/drawingml/2006/table">
            <a:tbl>
              <a:tblPr/>
              <a:tblGrid>
                <a:gridCol w="912960"/>
                <a:gridCol w="1230120"/>
                <a:gridCol w="1500480"/>
                <a:gridCol w="1000080"/>
                <a:gridCol w="1571400"/>
              </a:tblGrid>
              <a:tr h="3031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  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무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생년월일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 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  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</a:t>
                      </a:r>
                      <a:br>
                        <a:rPr sz="1200"/>
                      </a:b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근무지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3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보훈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장애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해당 없음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있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65040" y="2508120"/>
          <a:ext cx="6205680" cy="127188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1143000"/>
                <a:gridCol w="922320"/>
                <a:gridCol w="935280"/>
                <a:gridCol w="876240"/>
                <a:gridCol w="546120"/>
                <a:gridCol w="639720"/>
              </a:tblGrid>
              <a:tr h="365400">
                <a:tc row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항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졸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대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학 교 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  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성  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득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만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  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졸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분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대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~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등학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428760" y="2643120"/>
          <a:ext cx="6072120" cy="6083280"/>
        </p:xfrm>
        <a:graphic>
          <a:graphicData uri="http://schemas.openxmlformats.org/drawingml/2006/table">
            <a:tbl>
              <a:tblPr/>
              <a:tblGrid>
                <a:gridCol w="785520"/>
                <a:gridCol w="846360"/>
                <a:gridCol w="797040"/>
                <a:gridCol w="1000080"/>
                <a:gridCol w="1071360"/>
                <a:gridCol w="1571760"/>
              </a:tblGrid>
              <a:tr h="50004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 로 젝 트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참여기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 객 사</a:t>
                      </a:r>
                      <a:br>
                        <a:rPr sz="1000"/>
                      </a:b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발 주 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역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시스템환경</a:t>
                      </a:r>
                      <a:br>
                        <a:rPr sz="1000"/>
                      </a:b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Skill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실적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성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3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신 경력부터 입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력예시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15.0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8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316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2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0" name="Rectangle 1"/>
          <p:cNvSpPr/>
          <p:nvPr/>
        </p:nvSpPr>
        <p:spPr>
          <a:xfrm>
            <a:off x="2125800" y="214200"/>
            <a:ext cx="230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프로젝트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1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2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428760" y="1000080"/>
          <a:ext cx="6072120" cy="1500120"/>
        </p:xfrm>
        <a:graphic>
          <a:graphicData uri="http://schemas.openxmlformats.org/drawingml/2006/table">
            <a:tbl>
              <a:tblPr/>
              <a:tblGrid>
                <a:gridCol w="961920"/>
                <a:gridCol w="961920"/>
                <a:gridCol w="1022400"/>
                <a:gridCol w="1081080"/>
                <a:gridCol w="843120"/>
                <a:gridCol w="1201680"/>
              </a:tblGrid>
              <a:tr h="248400"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58760"/>
                          <a:tab algn="l" pos="2048040"/>
                          <a:tab algn="l" pos="3759120"/>
                          <a:tab algn="l" pos="465948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체 경력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68760" marR="68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스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C,java,flex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등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사용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rowSpan="2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숙련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초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/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고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47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규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계약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프리랜서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4360"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5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96600"/>
                <a:gridCol w="790920"/>
                <a:gridCol w="86508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0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기재 필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예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.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~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7.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7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428760" y="1039680"/>
          <a:ext cx="6072120" cy="7148520"/>
        </p:xfrm>
        <a:graphic>
          <a:graphicData uri="http://schemas.openxmlformats.org/drawingml/2006/table">
            <a:tbl>
              <a:tblPr/>
              <a:tblGrid>
                <a:gridCol w="655560"/>
                <a:gridCol w="743040"/>
                <a:gridCol w="954000"/>
                <a:gridCol w="647640"/>
                <a:gridCol w="3071880"/>
              </a:tblGrid>
              <a:tr h="43200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회사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원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속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책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담당업무 및 업무실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세히 기술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33992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080"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200" rIns="25200" tIns="0" bIns="0" anchor="ctr">
                      <a:noAutofit/>
                    </a:bodyPr>
                    <a:p>
                      <a:pPr marL="228600" indent="-22860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5200" marR="25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Rectangle 1"/>
          <p:cNvSpPr/>
          <p:nvPr/>
        </p:nvSpPr>
        <p:spPr>
          <a:xfrm>
            <a:off x="428760" y="214200"/>
            <a:ext cx="60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경  력  사  항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(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계속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)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맑은 고딕"/>
                <a:ea typeface="맑은 고딕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TextBox 6"/>
          <p:cNvSpPr/>
          <p:nvPr/>
        </p:nvSpPr>
        <p:spPr>
          <a:xfrm>
            <a:off x="547920" y="682560"/>
            <a:ext cx="48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1" name="Picture 240" descr=""/>
          <p:cNvPicPr/>
          <p:nvPr/>
        </p:nvPicPr>
        <p:blipFill>
          <a:blip r:embed="rId1"/>
          <a:stretch/>
        </p:blipFill>
        <p:spPr>
          <a:xfrm>
            <a:off x="357120" y="214200"/>
            <a:ext cx="94932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76280" y="509760"/>
          <a:ext cx="5952960" cy="265248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523800">
                <a:tc gridSpan="2"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자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기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소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개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름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2868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이직사유 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동기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입사 후 포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지원한 동기와 잘 할 수 있는 일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,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그리고 그 일을 하기 위해 어떤 준비를 하였는지 말하시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Rectangle 1"/>
          <p:cNvSpPr/>
          <p:nvPr/>
        </p:nvSpPr>
        <p:spPr>
          <a:xfrm>
            <a:off x="412920" y="7918200"/>
            <a:ext cx="594504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와 같이 귀사에 입사를 희망하며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 기재내용이 사실과 다른 경우에는 귀사의 어떤 조치에도 이의를 제기치 않겠습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용 업무에 한해 입사지원서에 기입한 개인정보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름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화번호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소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력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적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격사항 등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활용에 동의합니다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15 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년  월  일        지원자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서명</a:t>
            </a:r>
            <a:r>
              <a:rPr b="0" lang="en-US" sz="1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76280" y="3243240"/>
          <a:ext cx="5952960" cy="2279520"/>
        </p:xfrm>
        <a:graphic>
          <a:graphicData uri="http://schemas.openxmlformats.org/drawingml/2006/table">
            <a:tbl>
              <a:tblPr/>
              <a:tblGrid>
                <a:gridCol w="969840"/>
                <a:gridCol w="4983120"/>
              </a:tblGrid>
              <a:tr h="2279520">
                <a:tc>
                  <a:txBody>
                    <a:bodyPr lIns="29520" rIns="29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무기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주요 성공 및 실패사례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29520" rIns="2952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* 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본인이 가장 열정과 관심을 쏟았던 분야 및 이를 통해 성취한 성공 및 실패 사례를 구체적으로 기술하시기 바랍니다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29520" marR="2952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Picture 240" descr=""/>
          <p:cNvPicPr/>
          <p:nvPr/>
        </p:nvPicPr>
        <p:blipFill>
          <a:blip r:embed="rId1"/>
          <a:stretch/>
        </p:blipFill>
        <p:spPr>
          <a:xfrm>
            <a:off x="474840" y="46080"/>
            <a:ext cx="949320" cy="428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" name=""/>
          <p:cNvGraphicFramePr/>
          <p:nvPr/>
        </p:nvGraphicFramePr>
        <p:xfrm>
          <a:off x="500040" y="5659560"/>
          <a:ext cx="5907240" cy="896760"/>
        </p:xfrm>
        <a:graphic>
          <a:graphicData uri="http://schemas.openxmlformats.org/drawingml/2006/table">
            <a:tbl>
              <a:tblPr/>
              <a:tblGrid>
                <a:gridCol w="857160"/>
                <a:gridCol w="1000080"/>
                <a:gridCol w="2571840"/>
                <a:gridCol w="1478160"/>
              </a:tblGrid>
              <a:tr h="207720">
                <a:tc row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최근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읽은 도서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구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서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저자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173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관련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2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9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업무 외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00040" y="6686640"/>
          <a:ext cx="2722680" cy="987480"/>
        </p:xfrm>
        <a:graphic>
          <a:graphicData uri="http://schemas.openxmlformats.org/drawingml/2006/table">
            <a:tbl>
              <a:tblPr/>
              <a:tblGrid>
                <a:gridCol w="841320"/>
                <a:gridCol w="1881360"/>
              </a:tblGrid>
              <a:tr h="288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92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5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희망연봉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286080" y="6688080"/>
          <a:ext cx="3143160" cy="981000"/>
        </p:xfrm>
        <a:graphic>
          <a:graphicData uri="http://schemas.openxmlformats.org/drawingml/2006/table">
            <a:tbl>
              <a:tblPr/>
              <a:tblGrid>
                <a:gridCol w="785880"/>
                <a:gridCol w="785880"/>
                <a:gridCol w="785880"/>
                <a:gridCol w="785520"/>
              </a:tblGrid>
              <a:tr h="287280">
                <a:tc gridSpan="4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직위 및 처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00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직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승진년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720"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현재연봉</a:t>
                      </a:r>
                      <a:br>
                        <a:rPr sz="1100"/>
                      </a:b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센티브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</a:t>
                      </a: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제외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1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필수기재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9:49:00Z</dcterms:created>
  <dc:creator>LGDACOM</dc:creator>
  <dc:description/>
  <dc:language>en-US</dc:language>
  <cp:lastModifiedBy>medialog</cp:lastModifiedBy>
  <cp:lastPrinted>2011-01-27T06:54:10Z</cp:lastPrinted>
  <dcterms:modified xsi:type="dcterms:W3CDTF">2015-02-23T01:24:11Z</dcterms:modified>
  <cp:revision>151</cp:revision>
  <dc:subject/>
  <dc:title>슬라이드 1</dc:title>
</cp:coreProperties>
</file>