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F831-CBAB-47AB-998C-19911F68D10E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5F1DF-B581-433E-BF8F-21029CD26165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F113-0E56-450C-A547-ADB392878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660-9209-45D1-8EB2-545BEAF50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C7EE-1178-48E8-85CE-81D8C1EBB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5811-C5A0-41AE-9CB6-18509D392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E260-ECF5-455D-B532-4B5BFE662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68A7-1372-4BA4-B4CC-F0A7347F0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5A6-0D09-492B-9413-2435257A6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1AA1-A56D-407C-8DA2-29174B05E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652-3B9B-40F5-B08B-58C536289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AF386-C182-4CBD-834A-681A7F67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3391-E56B-4F10-9473-C1D3B977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D79E-3728-4F73-85CC-FADA89C6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C45BD-5DBB-4BE9-B401-CDA3BF827B2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2481120"/>
          <a:ext cx="6205680" cy="124164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714600"/>
                <a:gridCol w="718920"/>
                <a:gridCol w="1297080"/>
                <a:gridCol w="54936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4287960"/>
          <a:ext cx="6215040" cy="107316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23292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5359320"/>
          <a:ext cx="6215040" cy="20131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36612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3718080"/>
          <a:ext cx="6215040" cy="56808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19548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357120" y="7034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6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3"/>
          <p:cNvSpPr/>
          <p:nvPr/>
        </p:nvSpPr>
        <p:spPr>
          <a:xfrm>
            <a:off x="5801760" y="357120"/>
            <a:ext cx="63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746800" y="214200"/>
            <a:ext cx="137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6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76280" y="343548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1" name=""/>
          <p:cNvGraphicFramePr/>
          <p:nvPr/>
        </p:nvGraphicFramePr>
        <p:xfrm>
          <a:off x="500040" y="585792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1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286080" y="68644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96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500040" y="685800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908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7T02:54:13Z</dcterms:modified>
  <cp:revision>143</cp:revision>
  <dc:subject/>
  <dc:title>슬라이드 1</dc:title>
</cp:coreProperties>
</file>