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96D2-6AC0-4E98-9972-D60B9E91DCAB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F8D06-C6E8-460D-B26B-2FAC892E0AB8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A315-91F8-44C7-BDEB-6AB1BC033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C8C2-E23D-476E-907D-122356B6B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B9467-47BF-40FB-A783-153BEBF1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FDBC-E119-4C44-9283-393F838F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6F56-421D-49DB-B432-38CBC1332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5BF1-48F5-45DE-80E9-CF09BE660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49BF-A20C-435B-8DD0-A11C8C744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DFF-7744-42A3-94C9-2EB4CBFB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C83-8B38-42A7-B068-33F4CCA5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07EA-489E-40B0-81BA-AE6007064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0F65-E6F0-4FE3-8F2D-5C3551472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C53E-AB8A-459C-B90F-D217E4A3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2E59D-A249-4F3C-AC4A-4BF215D4AFA9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600084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55720"/>
                <a:gridCol w="71748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714384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484200"/>
                <a:gridCol w="1230120"/>
                <a:gridCol w="571680"/>
                <a:gridCol w="642960"/>
                <a:gridCol w="866520"/>
                <a:gridCol w="865440"/>
                <a:gridCol w="98244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장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4643280"/>
          <a:ext cx="6215040" cy="130176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684360"/>
                <a:gridCol w="730080"/>
              </a:tblGrid>
              <a:tr h="3625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40006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205740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4" name="Picture 240" descr=""/>
          <p:cNvPicPr/>
          <p:nvPr/>
        </p:nvPicPr>
        <p:blipFill>
          <a:blip r:embed="rId1"/>
          <a:stretch/>
        </p:blipFill>
        <p:spPr>
          <a:xfrm>
            <a:off x="357120" y="285840"/>
            <a:ext cx="949320" cy="428400"/>
          </a:xfrm>
          <a:prstGeom prst="rect">
            <a:avLst/>
          </a:prstGeom>
          <a:ln w="0">
            <a:noFill/>
          </a:ln>
        </p:spPr>
      </p:pic>
      <p:sp>
        <p:nvSpPr>
          <p:cNvPr id="55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5873040" y="47844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입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75708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48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71520" y="2697120"/>
          <a:ext cx="6205320" cy="1241640"/>
        </p:xfrm>
        <a:graphic>
          <a:graphicData uri="http://schemas.openxmlformats.org/drawingml/2006/table">
            <a:tbl>
              <a:tblPr/>
              <a:tblGrid>
                <a:gridCol w="571320"/>
                <a:gridCol w="571680"/>
                <a:gridCol w="1143000"/>
                <a:gridCol w="700200"/>
                <a:gridCol w="1008000"/>
                <a:gridCol w="102528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76280" y="565200"/>
          <a:ext cx="5952960" cy="61498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47448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56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984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Picture 240" descr=""/>
          <p:cNvPicPr/>
          <p:nvPr/>
        </p:nvPicPr>
        <p:blipFill>
          <a:blip r:embed="rId1"/>
          <a:stretch/>
        </p:blipFill>
        <p:spPr>
          <a:xfrm>
            <a:off x="479520" y="9684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"/>
          <p:cNvSpPr/>
          <p:nvPr/>
        </p:nvSpPr>
        <p:spPr>
          <a:xfrm>
            <a:off x="455760" y="7826400"/>
            <a:ext cx="59464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4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040" y="67867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1:31Z</dcterms:modified>
  <cp:revision>123</cp:revision>
  <dc:subject/>
  <dc:title>슬라이드 1</dc:title>
</cp:coreProperties>
</file>