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6AEF6-1ECA-4847-B205-42B70FD40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563DC-CAE7-40FF-AFA2-2326838AA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8D3BD-82E8-4C61-98FA-638D4B65D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750AD-5569-4C33-A928-6837C1E6B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9BCE0-A018-4BB9-997E-B575B7841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5907F-A6D7-46D6-A977-0650C823C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B98D4-C7EB-42D1-BFEB-76E397B43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09065-7D66-451A-B368-C52B48BB9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8230D-7C91-4F40-952A-541029D54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650B6-DFD5-4EAC-AB25-C7A31CF6A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2E1C7-848D-4839-B9D0-D88ACD666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07715-36FC-4B09-9D0D-147D54474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37B63-5919-4C65-9E9B-A3D8D4819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DB0AF-869D-45AA-A58A-38CD0629E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E8E82-5435-4479-A7D4-3E5D6F32A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EE4E5-9A6B-41DB-A94A-D179E09A7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6EA77-C92C-4D41-9296-CD2A2379D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B3044-61B3-43F0-9AAB-6BD97FCE6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DA022-CF33-4EB0-BE9F-196CC4825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17D9A-1023-4042-AF7A-7F3067984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AEB2E-C53D-4334-BD91-9B2B2C26F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7A4AF-A36A-420F-B9CF-8B9921725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5D771-0232-4AA1-BAE5-E067A3463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D5B5A-7532-436C-BA79-275B1EB47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7FCC2-865E-4FE5-8181-8F715BAC7CE8}" type="slidenum">
              <a:rPr b="1" lang="ko-KR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5E172-5836-4FDD-8867-2ADA0702E665}" type="slidenum">
              <a:rPr b="1" lang="ko-KR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대구대학교 언어치료학과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권 도 하 교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말더듬 치료 프로그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학습된 행동으로써 조작적 반응과 수동적 반응 두 가지 모두로 구성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조작적 측면과 수동적 측면에 대한 상대적인 중요성과 이들의 상호관계의 범위에 대한 의문은 남아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더듬은 화행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peech act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불안 요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구어문제에 대한 본인이 말로 진술하는 태도 등 적어도 세 가지 행동 유형으로 구성되어 있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구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의 구어 부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강 및 호흡 메커니즘의 활동들을 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전체 및 단어부분의 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또는 폐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호흡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 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한 화자라도 가끔 “말을 더듬음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인으로서의 자아개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elf-concept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지나친 불안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령 전 아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심한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별히 구어적 혹은 태도적인 특징이 없이 종종 나타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2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불안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율 신경계의 작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흥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excitement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활성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activation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anxiety)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사하지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동일한 활동은 아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의 표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빠른 말하기 속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시적인 고음도의 음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태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tate anxiety)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겉으로 드러나지는 않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땀과 같은 어떤 생리적인 관련성을 통해서 단지 간접적으로 감지되거나 측정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성 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trait anxiety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를 통해서 그 사람을 측정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말더듬의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과적 관련성에 대한 확실한 증거 발견하지 못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3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태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두 행동으로 표현된 태도는 말더듬을 경험 후에 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에 대해 깨닫는 연령이어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경에서 그것에 대한 반응을 알 수 있어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와 말더듬에 관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Bloodstein(1995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의 논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는 치료 결과와 중요한 관련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인들이 정상인들보다 의사소통에 좋지 않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 가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좋지 않은 태도는 말더듬의 심한 정도와 관련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와 말더듬의 치료 후의 향상 사이에 약간의 정적 상관관계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의 변화가 구어의 개선에 미치는 역할은 언급없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이 개선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가 개선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790200" y="790560"/>
            <a:ext cx="5967720" cy="3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3282840" y="2336760"/>
          <a:ext cx="2805120" cy="3774960"/>
        </p:xfrm>
        <a:graphic>
          <a:graphicData uri="http://schemas.openxmlformats.org/drawingml/2006/table">
            <a:tbl>
              <a:tblPr/>
              <a:tblGrid>
                <a:gridCol w="215280"/>
                <a:gridCol w="305280"/>
                <a:gridCol w="305280"/>
                <a:gridCol w="616680"/>
                <a:gridCol w="411840"/>
                <a:gridCol w="305280"/>
                <a:gridCol w="215280"/>
                <a:gridCol w="215280"/>
                <a:gridCol w="215280"/>
              </a:tblGrid>
              <a:tr h="333720"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신체적 기질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(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프로세싱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)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51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720"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말더듬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720"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불안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태도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4800"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722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환경적 영향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정적 강화 벌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부적강화소거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6" name="Rectangle 1"/>
          <p:cNvSpPr/>
          <p:nvPr/>
        </p:nvSpPr>
        <p:spPr>
          <a:xfrm>
            <a:off x="3069720" y="113040"/>
            <a:ext cx="300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그림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1.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말더듬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불안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태도 요인들과 환경과 상호작용하는 생리적 기질 사이의 상호관계</a:t>
            </a:r>
            <a:endParaRPr b="0" lang="en-US" sz="9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5560" y="835560"/>
            <a:ext cx="777708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현재와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974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년의 저자의 차이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문제의 주된 원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정적인 태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의 결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피드백을 제공하는 종속적인 문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문제를 증가시킬 수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이든 아동과 성인에게서 문제의 부분이 될 수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정적인 태도와 불안은 말더듬으로부터 오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악화시킬 수도 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우 어린 말더듬 아동들이 가장 잘 치료가 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이든 말더듬인은 치료 정도가 낮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습관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을 더듬은 년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부정적인 태도를 지원하는 자극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효과적인 치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어린 나이에 부정확하게 가르침 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조작적 조건화와 더듬은 구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작적 분석에 사용되는 용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후속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강화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S+, Rf, R+, S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으로도 말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을 불러일으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성 자극이 변별 자극으로 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극은 반응의 뒤에 따라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의 발생 빈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+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결정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후속자극</a:t>
            </a:r>
            <a:r>
              <a:rPr b="1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의 가능성에 영향을 미치는 모든 구두적 혹은 비구두적 사건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후속자극의 조작을 통해 행동을 변화시키는 </a:t>
            </a:r>
            <a:r>
              <a:rPr b="0" lang="en-US" sz="3200" spc="-1" strike="noStrike">
                <a:solidFill>
                  <a:srgbClr val="006666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가지 방법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정적 강화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비율을 증가시키는 정적 강화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부적강화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혐오자극을 제거함으로써 그 반응의 비율이 증가하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벌이 아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부적강화와 벌이 모두 혐오자극과 관련이 있기 때문에 혼동가능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혐오자극을 주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소거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을 강화시켜왔던 후속자극을 제거하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 변화에 가장 강력하지 못한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연속적인 유사 또는 형성법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successive approximation or shaping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바라는 표적 행동에는 근접되었지만 정확한  표적 행동은 아닌 행동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 행동들을 강화함으로써 어떤 반응이나 반응의 연속을 가르치는 것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최종 목표 반응이나 반응의 연속 쪽으로 점차적으로 변화되는 것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최종 바람직한 반응 혹은 반응의 연속이란 최종목표 쪽으로 행동 또는 단계들에 대한 프로그램 혹은 수정이란 개념으로 발전되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5" name="0042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723569" fill="hold"/>
                                        <p:tgtEl>
                                          <p:spTgt spid="1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강화 스케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을 주는 빈도의 변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치료에서 중요한 문제인 유지에 있어서는 중요한 개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용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fading)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기회를 감소시켜 나가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종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빈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100%, 50%, 10%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방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정간격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변동비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“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치료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”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의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와 장애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내가 찾는 의사에 대한 가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최고의 지식을 가지고 있을 것이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좋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잘 맞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약을 처방할 것이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99" name="00420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자극 일반화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변별적 자극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외에 자극 제시 하에서 일어나는 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는 임상가이외의 사람과도 유창하게 말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자극 일반화는 자발적 혹은 치료과정에서 증강되어야 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반응 빈도 혹은 비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빈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의 강도를 측정하는 일반적인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측정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보통 시간 단위로 측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 분당 반응의 비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백분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100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단어당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0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개 말더듬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비율의 증가나 감소 의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자극 혹은 후속자극들이 반응비율의 변화에 영향을 미쳤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수행의 기준수준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행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을 연구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변화시키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르칠 때 바라는 수준을 의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반응의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반응의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속적인 정반응의 수 등으로 나타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계의 수행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없음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, 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연속적인 유창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문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유창한 구어의 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고려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에 대한 높은 수준 혹은 말더듬에 대한 낮은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0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설정하는 것이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수준을 높지 않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계속하게 될 것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 높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보다 어려운 다음 단계로 나아가지 못할 가능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유창성의 야기 혹은 조작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(</a:t>
            </a: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치료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의 빈도와 비율에서 변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치료라 함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변화를 야기하는 자극 또는 후속자극을 조정함으로써 말더듬을 조작적으로 통제할 수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“No”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끄덕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nodding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얼굴을 돌리는 것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looking away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지루한 기색을 보이는 것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yawning)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조작적 조건화와 말더듬에 대한 태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상담</a:t>
            </a:r>
            <a:r>
              <a:rPr b="1" lang="en-US" sz="2800" spc="-1" strike="noStrike">
                <a:solidFill>
                  <a:srgbClr val="003366"/>
                </a:solidFill>
                <a:latin typeface="굴림"/>
              </a:rPr>
              <a:t>: 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치료 전 및 치료 후에 태도를 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인이 유창성이 증가된 결과에 따라 구두적 진술의 유형들을 조작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긍정적 구두 진술을 하게 만들었고 또 태도 변화를 가져왔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적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respondent;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수동적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요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전적 조건화에서 관찰된 것과 유사한 반응의 분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과 관련된 필수적인 반응적 반응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적 반응과 조작적 반응과의 관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동시에 일어날 수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서로 각각의 반응을 불러일으키거나 유도하거나 심지어 방해를 할 수도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완전히 독립적으로 일어날 수도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같은 반응적 행동을 연구에 포함하지 않는 이유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같은 반응은 직접적으로 관찰하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측정하고 조작하기가 어렵기 때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-2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말더듬에 관한 연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초기에 많은 연구들이 보고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에 대한 관심이 감소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의 역할을 실험적으로 증명불가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의 역할에 대해 관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현 시점에서는 크지 않으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치료에서 불안에 관심을 가지도록 지지할 실험적인 정보가 비교적 적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저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이 말더듬을 증가시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청중 수 증가가 말더듬 증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-3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치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집중적인 논의나 그 가치가 크다는 것이 증명되지 않았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과 함께 불안의 공존을 측정하는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후 불안의 변화 등에 비해 관심이 더 많지 않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최근에 말더듬의 발달과 치료에서 불안의 역할에 대해 고찰하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말더듬 사이의 관계에 관해서 재조사할 것을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많은 환자들이 불안을 보고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많은 임상가들이 치료에 어떤 형식의 불안 감소치료를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의 세 가지 수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지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는 정말 긴장하고 있어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)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전화 받는 것과 같은 어떤 구어상황을 피한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GRS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와 불규칙적인 심장박동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단일대상설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종속변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독립변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반응 후에 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NO”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라는 후속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이의 기능적 관계 연구 가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능적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종속변인의 반응비율에 미친 독립변인의 효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증가 또는 감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결과는 일반적으로 숫자로 나타낸 표보다는 그래프나 차트 형태로 나타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일대상 설계의 특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일 종속 변인에 미친 독립 변인의 효과를 직접적이고 신뢰성 있게 관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본적인 설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ABA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설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 비율 혹은 기준선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립 변인이나 조작을 제시하거나 중지를 여러 번 실시하고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시 기준 비율을 각각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 측정한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연구 예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종속변인으로서의 말더듬과 독립변인으로서의 말더듬에 주는 후속자극으로 임상가가 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No"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를 제시하는 것에 대한 단일대상설계의 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5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59" name="_x81732624" descr="EMB00000840b0b2"/>
          <p:cNvPicPr/>
          <p:nvPr/>
        </p:nvPicPr>
        <p:blipFill>
          <a:blip r:embed="rId1"/>
          <a:stretch/>
        </p:blipFill>
        <p:spPr>
          <a:xfrm>
            <a:off x="2627280" y="3141720"/>
            <a:ext cx="482436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인류 최초의 말더듬 현상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언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누구에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PFAGH + Cs(Wf + Sf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S  = ------------------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    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M + Ep Fl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본서의 초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자극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반응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후속자극이란 견지에서 분석 가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일어나고 있는 행동이 무엇인가를 결정하기 위해서 관찰할 수 있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에서 변화를 가져올 수 있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변인을 조정할 수 있음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변화시키는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4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가지 필수적인 방법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 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연속적인 유사라는 것은 어떤 프로그램을 개발하기 위한 방법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에 대한 조작적인 정의 혹은 설명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정확하게 나타내고 신뢰성 있게 측정 가능하게 함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3.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더듬은 구어 및 유창한 구어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표면적이고 측정 가능함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4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한 구어와 더듬은 구어 사이를 구별하는 것을 돕기 위한 조작적 정의를 내림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태도 등의 수정을 포함하여야만 한다고 주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불안과 태도는 직접적으로 쉽게 측정되지 않음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한 구어의 산출이 불안과 태도에서 동시적인 변화를 가져오는 경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인의 부정적 태도 및 해로운 불안을 수정하기 위한 가장 좋은 절차는 유창하게 말하는 능력을 제공하는 것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제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장 행동원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조작적 행동 및 수동적 행동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경을 분석하고 조절하는 시스템의 일종인 행동주의의 한 형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주의의 주 전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이 행동을 결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수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 관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에 대한 실험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에 대한 기능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조건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정밀 교수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프로그램화된 교수법 등의 용어로도 사용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표적 행동의 조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 접근법의 특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직접 관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관찰 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계속적인 측정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측정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③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후속자극의 체계적인 조작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조작 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*(   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표적 행동을 설명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6" name="00421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행동 종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이론 시스템에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모든 행동의 분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적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정한 자극의 통제 하에 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숨겨져서 나타나지 않는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腺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활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간단한 반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율신경계 기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작적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자극의 통제 하에 오는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후속자극에 의해 행동의 발생이 따라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겉으로 드러난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항문근의 활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추신경계의 기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은 조작적 행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신경심리적 혹은 심리기인적 요인들에 의해 유발된 것은 제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다음에 혐오 사건을 주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감소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다음에 정적 강화를 주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증가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증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감소시키는 후속자극이 환경에서 말더듬에 영향미치는 조작적 행동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 후속자극을 조작함으로써 피험자를 조절할 수 있다는 믿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본서의 치료 프로그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러한 믿음에 기초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과학적인 분석 시스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과학적인 객관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타당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신뢰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시스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)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 변화에 대단히 효과적이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효율적이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도움이 되어 옴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의 정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857160" y="235728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대부분의 정의에 포함된 사항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구어 유창성의 깨어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에 대한 특정한 공포 또는 불안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것에 대한 공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것 그 자체의 장애와 관련된 자아개념 또는 태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의 원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학상의 불일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습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습될 수도 있는 어떠한 행동 및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태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심리역동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개인적 부적응의 표현으로 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을 학습된 행동 특히 조작적 행동으로 보는 관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15" name="00422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2T01:40:00Z</dcterms:created>
  <dc:creator>user</dc:creator>
  <dc:description/>
  <dc:language>en-US</dc:language>
  <cp:lastModifiedBy>user</cp:lastModifiedBy>
  <dcterms:modified xsi:type="dcterms:W3CDTF">2013-11-13T02:04:43Z</dcterms:modified>
  <cp:revision>39</cp:revision>
  <dc:subject/>
  <dc:title>말더듬 치료 프로그램</dc:title>
</cp:coreProperties>
</file>