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2709E-79F9-4729-AF44-4DFB254183F8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2C870-D7AB-478F-B4B3-A8FBE8E97DD9}" type="slidenum">
              <a:rPr b="0" lang="ko-KR" sz="1200" spc="-1" strike="noStrike">
                <a:solidFill>
                  <a:srgbClr val="003366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A080-35E8-48A3-9643-D15A7BD24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CE49-825B-46C5-85D4-E26F6FA6A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71B7-B396-4C24-A09D-7561C9E83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B383-22B8-4637-9401-3E224D73C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02BE9-7BB0-4695-BFD6-FA6AD3A55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95D8D-CBBE-4212-A85A-E9C3F22BE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12440-B92A-422F-8C12-FEEC23A21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75004-32F1-4355-BE53-132926CDB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56E75-923F-4C73-9383-1691CBEBC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F3388-C825-48EA-B2A6-26AB2206E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0B10F-62D7-409A-8905-A1E65CDFA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F5C5-715F-4097-91D0-0291C6E85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FD36F-2604-4703-8C9B-3FE98A6D9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9D548-A365-4861-98FF-C0A9FD6E9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CFF07-41B6-4C20-B933-8DC8E919C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C23E4-8840-422F-AA59-5B2ADF3F8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5DFE9-A7EA-43B8-86AB-9355C35DF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DEC1-78D1-4C14-ACC2-CEE0E79F1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5AA0-A4D7-4BAE-BFB5-DC2B99D0A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F923-2D79-4C34-B32B-D705F618F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EB80-49C3-4C89-AEDB-14944A8A2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B2D1-303F-4E70-9FD8-D2A02F730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2476-D03C-4178-9E88-8088E695B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969F-7DAA-4CE6-9E53-8D5F0DC05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6E221-6BF5-4912-ADC5-1BFB47BE59F6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92EF9-CF35-4CEF-AC57-6442CA807B27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3366"/>
                </a:solidFill>
                <a:latin typeface="굴림"/>
              </a:rPr>
              <a:t>2 </a:t>
            </a: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장 조작적 절차의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유창성 혹은 유창성에서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 정도 길이 혹은 기대하지 않았던 장소에서의 쉼 행동의 발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침묵 폐쇄 혹은 투쟁을 하는 중간에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각적인 단서를 보이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입술 자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작은 소리를 수반하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을 수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단어전체반복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로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상적인 비유창성인 단어전체반복과 말을 더듬은 단어전체반복 사이의 차이를 타당하게 또는 신뢰성 있게 구별 할 수 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소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und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다 과대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ov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는 방향으로 가서 잘못을 범하는 것이 더 낫다고 믿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폐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막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과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투쟁 구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특한 다른 범주들 내에 쉽게 적합하지 않는 모든 종류의 비정상적인 행동에 대해 포괄적인 것으로 판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”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라는 범주와 동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리 나는 흡기 또는 혀 내미는 것 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폐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의 차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onture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이분법적인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간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betwee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내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ithi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의 비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들을 두개의 분류로 감소시킨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칭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즉각적인 판별과 결과 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맞지 않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혼란야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0" name="3주차-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240604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머뭇거림과 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 다른 연구자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범주 속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혹은 막힘 혹은 긴장이란 범주 속에 그것을 포함시키는 것을 반대하여 독립된 범주 이름을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화자들의 말에서 매우 일상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의 경우는 말더듬으로 간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시적 혹은 가청적 행동으로 겉으로 드러나지 않는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tuttering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른 수반행동이 있을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삽입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sertion)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과 간투사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terjection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삽입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sertion)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로 추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번 이상 반복한다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"uh, uh"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를 말더듬으로 계수하고 “단어전체” 반복으로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판별 및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W=stuttered word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의 발화 바로 앞에 혹은 동시에 한 개 이상의 말더듬 행동이 일어나는 것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적인 결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원적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단어는 단지 한번만 계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 공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time space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 앞에 나오는 단어의 마지막 음소로부터 그 단어의 마지막 음소까지를 의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 단어를 마지막으로 말을 하기 전에 여러 가지 상이한 행동들이 일어날 가능성이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개 더듬은 단어로 계수하는 이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산의 편의성 및 특히 즉각적 혹은 실시간 계수하는데서 일관성 혹은 신뢰성을 위해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06400" y="1241280"/>
            <a:ext cx="7835400" cy="61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W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유무 계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유형의 분류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형태 혹은 유형에 관한 데이터는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연회복의 예견지표로서의 형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의 심한 정도를 결정하는 중요한 요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형태분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환자의 훈련의 필요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진전 과정의 결정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및 치료 종결 등을 결정할 때 도움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후적인 가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각자의 강화의 역사가 다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조작적 혹은 반응적 반응 혹은 “유창성 실패”일 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차적인 특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구어 행동의 이면에 감춰져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7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 제거가 팔 흔들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눈 깜빡거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머리 돌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혀 내밀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들과 같은 이차적인 특성들이 그 행동들에 대해서 특별한 주의를 기울이지 않아도 모두 없어지는 것을 관찰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재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말하는 것과 읽는 것의 시간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opwatch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 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규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을 포함한 실제적으로 말한 시간만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명백하게 말하려고 노력하고 있는 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계속 작동하여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노력을 멈추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멈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은 쉼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멈추었다가 다시 시작하기에는 너무 시간이 짧아서 어렵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계속 작동시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 측정과 동시에 말더듬 단어 계수를 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正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////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단어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시간 계산하는데 사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43" name="직선 연결선 8"/>
          <p:cNvSpPr/>
          <p:nvPr/>
        </p:nvSpPr>
        <p:spPr>
          <a:xfrm>
            <a:off x="6429240" y="5286240"/>
            <a:ext cx="714600" cy="21456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조작적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단어와 유창한 단어의 계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시간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비율과 말한 속도의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규준되는 형태와 말한 속도에 대한 데이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관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이밍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신뢰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표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수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3주차-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W/M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말더듬 측정 비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평균 더듬은 단어의 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 1.5SW/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음절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S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더듬은 단어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W, %WS; stuttered words, words stuttered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나 음절과 말한 전체 단어 혹은 음절을 모두 계수함으로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를 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5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253 × 100 = 5.9%WS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4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340 × 100 = 4.4%SS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는 속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 또는 천천히 말하기를 포함한 어떠한 치료의 분석에서도 필요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비율이 정상적인 구어의 질을 결정하는데 필요조건이냐 혹은 아니냐는 논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범위 내에서 느린 비율로 말하는 경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이 아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행동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가 말더듬 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에 매우 명백한 기능적인 관계를 발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말하거나 읽은 단어 또는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S/M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48" name="3주차-4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903761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음절을 계수하는 규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를 계수하는 규칙과 약간 다름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 내에서 반복된 음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은 아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포함하는 각 음절을 계수하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삽입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매 분당 음절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SPM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계산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WS/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한 계산과 동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.2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136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이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/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/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따라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.77 = 23.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를 추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할 수 있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23 = 29.9SPM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를 추정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기 속도 측정방법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비율을 제공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를 평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정상적으로 말을 하고 있으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또 치료를 종결할 준비가 되어 있는지를 결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말하기 속도의 측정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하기 과업인 읽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대화 중에서 한 개 이상에 근거한 새로운 환산 수치 세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77×SPM= WS/M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및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.33×WS/M= SPM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란 공식으로 정확한 추산 가능을 발견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단의 신뢰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찰에 대한 일관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련성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가 표적 행동을 정확하게 뿐만 아니라 지속적으로 정확하게 계수할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산방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점수 대 점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point-to-point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ord-by-word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 대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yllable-by-syllable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 과정이 가장 좋다는데 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에서 어느 단어 혹은 음절을 더듬었는지 또는 더듬지 않았는지를 확인 비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총계수 측정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분의 신뢰도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전체 계수 사이에 일치한 양을 상관관계로 나타내거나 체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급연구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이 좋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도식화하기 혹은 그래프 그리기 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의 도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의 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    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션 혹은 날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수행력을 시각적 피드백으로 제공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류를 발견하고 문제점을 해결하는데 매우 도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814320" y="1123920"/>
            <a:ext cx="7819560" cy="72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채점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785520" y="257148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채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coring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나타낸 반응의 정확도를 기록하는 것을 말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혹은 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0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통 토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이나 강화제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표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의 기본 단위를 정의하는 것이 중요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은 더듬은 단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많은 권위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다음절 단어 내에서의 더듬은 음절을 계수하는 것을 더 선호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Ingham(1984b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단어를 계수하는 것이 더 적절한 것으로 증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본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 행동 단위로서 더듬은 단어와 유창한 단어를 사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정의 및 판별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 계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많이 사용하나 단점도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ooper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수를 계수하지 않고도 효과적인 치료 가능하다고 주장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 계수 보다 더듬은 단어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령 전 프로젝트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Preschool Project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과 더듬은 단어 두 종류로 말더듬을 분류하는 많은 데이터를 수집한 결과 유의한 차이가 없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1" name="3주차-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음절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음절을 계수하는 것이 더듬은 단어를 계수하는 것보다 더 정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 내에서 한개 이상의 음절을 더듬을 수 있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환자들에게서 덜 더듬는 것으로 나타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에서 두 번 이상의 말더듬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와 동일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를 나타내기 위해 음절들을 계수하는 것과 일관성을 맞추기 위해서 그렇게 하는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의 수와 단어의 수에 사이에는 중요한 차이가 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것이 우리가 더듬는 것은 단어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는 음절로 보고하는 견지를 가지게 하였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별 시스템에 포함될 사항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57160" y="2285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타당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임상가와 환자가 말더듬 행동이라고 믿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있게 계수할 수 있는 행동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겉으로 들어나거나 겉으로 드러나게 할 수 있거나 느낄 수 있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분류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Johnso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통적인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범주를 근거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깨어진 단어 대신”투쟁“으로 대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와 단어부분으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추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 쉼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ense pause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 입술을 고정하는 것과 같은 다른 어떤 행동을 수반하는 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Yair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동적 발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진전을 수반한 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9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개 범주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4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분법적 시스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하고 신뢰성 있게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할 수 있는 용어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 분류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심이 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라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놓치거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지 않는 것 보다 낫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더듬은 단어의 유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예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및 예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3T22:34:36Z</dcterms:created>
  <dc:creator>kwon</dc:creator>
  <dc:description/>
  <dc:language>en-US</dc:language>
  <cp:lastModifiedBy>user</cp:lastModifiedBy>
  <dcterms:modified xsi:type="dcterms:W3CDTF">2013-11-13T02:10:57Z</dcterms:modified>
  <cp:revision>62</cp:revision>
  <dc:subject/>
  <dc:title>제 2 장 조작적 절차의 메커닉</dc:title>
</cp:coreProperties>
</file>